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79F-C271-4C24-9897-A7BACAD7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332-D3DA-4F8E-A054-426AC23A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E9BBB-8B68-4554-BCAD-2C9BAA06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32F7B-1E10-427D-AD8F-A3941AE7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EE269-124B-4727-B496-E2EEF843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50A87-4D82-4E0E-B7B2-DACD3004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96D93-5BBD-4DE6-AE36-2A3956FA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21BD3-FCF7-4D6B-A968-7EEEF979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679B9-7A8B-4894-9252-86861815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BB1A9-7F79-4ED0-93B0-26616537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62FDA-1655-49DA-BA10-6E2784B5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28352-33FA-4AFB-8286-87B23C8A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95B-F1C6-46C3-B101-8DC5806A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FACD1-2FAB-4527-A231-0AC0E1E4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8D723-F1C7-45BF-AB36-0376C58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C5F25-6C4D-455E-AFCC-7AD580EA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C4EB1-6E29-43D3-9CD0-9326EDF2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7D94C-A074-4563-8123-96A47982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90E2C-9416-4F13-8A95-DC69AB8B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2CF6E-3BBF-4435-AB12-7838727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A94AA-8D88-4AA3-9773-19DDFE81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AA5D6-FAA5-4E4E-B894-2A140310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C23D3-82C6-44D6-8E30-437CD22C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115-9A49-453F-AEC6-2DABDBBA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2EA8B-E5C5-42B1-B7BA-68E95BC8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32937-CB3F-42E2-BFD9-FAA8E500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111E4-50FA-4868-B315-3FC1086E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AB817-08A2-4062-AB3D-B256512E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CE07B-3B53-472D-B8FA-9B1D8291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7C0D7-362E-4D5E-B5F0-C3014B72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9C16A-FA9E-436F-BEFF-76AA526D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BDEC8-5B94-432C-8436-2563C7E7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38333-6BED-4D96-AC4F-14E2843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1B7AC-D496-4C92-81EB-76608165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6328-8978-43A6-A9C4-7452E3B3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5F406-2BCB-4619-988E-4338761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B4573-6677-4C0B-80F8-DFCF054E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F17B3-5EBB-4489-811B-DDAC7F85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D84FB-F201-4097-91D5-E374B2C4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2CE45-3945-4AE2-A8F0-9CD8464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0C325-8EB8-4E15-B385-625EE5CE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418BD-10C8-4736-9611-C00E8CAB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31A90-ED41-4671-8A85-6D8812EA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9201B-30B6-4922-9803-A2C7D590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BF6CD-0B68-47B9-9CF8-80BA777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B1A4-92BC-4AB6-A39B-C66A5C1D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416EA-6AC7-4E9E-B333-60A3299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C4C7F-70DD-4AE3-8A45-9655EAC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222B9-B9DF-4057-BBBE-41464D11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72A01-39C1-4716-AD50-12796F82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C1FA0-BAC9-4911-9A0B-758A2266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CB294-9F6B-4C56-8FB2-CB838FC6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6E07D-7060-4C54-B354-D4F4FFC7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B99EC-F118-4369-82A2-1305067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B60BB-29D9-485F-94FF-6987BF07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251C6-09BC-4C0C-97BD-D44972D4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215F-5757-4B71-9304-3A262563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AD287-3FEF-47F8-9D00-EEB8BCF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80832-44B2-44B1-9561-210AB761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E8B2B-1265-46ED-A159-1B9A570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64D9B-9FF2-4D5E-AD3A-D9A93958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CD57A-A872-416A-A9B1-89FFA536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1982F-D477-4F6F-8E58-ED229E69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31018-B906-4839-9701-078B780A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B8436-9988-44C0-936D-4B057CAA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6245F-CE32-406E-9735-C50179EF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9EE15-CC49-42A2-92AB-F2D67735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B05D-EBE2-4FED-A6E9-CA85C70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02C14-C4BD-46B9-BDB9-EB1656E8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01B7D-2C0B-48F8-BDDD-766960A7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4391B-D9DC-4C46-932C-CA959177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C195D-F388-4DCB-9ABE-888AC092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2AF8F-F2E4-4E62-87BE-F6382FED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A1E38-2D5A-4818-9209-6C5ED68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5AEDC-B186-4DBE-B26B-8127B46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D88C9-0CF6-4065-808E-A0275F79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301FD-8C6B-42F7-83DA-A5D1B91A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10A75-7899-4BB6-A500-43C570F0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2951-76DB-45EA-826D-1E39BDD6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69529-DEB2-47D8-B45E-7FE50C04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43DEF-E145-4183-B747-04C289D5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3DCA3-7EFD-40E5-895A-1BDF450C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46666-DB36-4952-B9ED-AFE90DA2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5A6EB-CA5C-4183-B36B-42E4845D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D30CF-69D1-42B3-9B3F-B3FEBFCF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2A22F-8C18-444C-BA5B-F64C858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19B57-4241-426C-8176-A9AEE12D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EC78F-BEF1-4A21-9103-B38A13FF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01755-A4EF-44E1-91C3-6312B091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1C56-E589-44F7-8B5C-FB49BE19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2EFA9-22FD-4CC8-9A38-42BD4A0F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EA5C5-C714-4964-A8B7-70ECCD3D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C2EB0-DA71-4F81-9EA1-79151A1E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28A40-63FF-4EF3-852E-BF77E109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73ABE-41E5-49A8-903A-57788096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4F978-8AE3-4D99-91FD-E6850595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1B711-8260-48C7-80D2-332C7201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8779E-30C2-4C78-9B60-6E07927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D69ED-A059-42C8-8F18-ACE30066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A8915-4D7E-45F8-A695-B94526F8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FDE2-AC34-4F37-B148-33AF5C0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9B815-5B96-45D5-9B82-911046E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712F9-783E-4909-87A3-265101D6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AD6F2-1B42-4402-85EF-557A4D8F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E13C0-1DFA-40D1-A0CD-4A9B8E9E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249CA-DE46-497E-9384-292E7A9D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EFF74-172D-47DD-8DC5-921C2123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83AAE-2EDA-4C10-B965-C3ADF85E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39C33-1758-4BC2-9682-C9B2D946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A7179-6217-4C1D-B887-60DA9FB1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FB860-1614-4432-9C92-8BC6D2B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93E-3646-4AFC-B91C-9682BA86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9D9F-99BA-4D86-A2D3-AF64EA5F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5E71B-99FB-4FAF-BA46-F35A7115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AB678-F8B8-4373-B3B9-726BFCC7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E1FA1-6B1D-482B-B437-277C54FF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A3FC1-9DE9-4BD3-89C3-42570A5E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A52FD-B2A6-440C-8513-EF141AF9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CAD3D-0BF9-46C4-BC50-4A2D216D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F20F5-5791-42BF-A593-AE8F2972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1C8C5-F6AB-4B63-BEAF-50F66640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7EA85-C779-4893-B6D7-8699F6C0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47DEF-5A19-4C91-A79F-F0C3E67D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AF24-C93C-4080-9C89-3BBBC4E6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7E848-B1AF-48EE-9D9B-569E7D50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B4B60-32A1-4C59-9419-B2CF558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66839-9CD7-4BD8-82AF-8AD71338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9903A-5563-4036-BB95-0AFC169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BD488-5E87-4278-BE5E-3A5FC173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C8120-B4EB-4A48-9AE4-6367B905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9C20A-7F9E-4420-948B-23E5B165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6F3026-E03F-47C2-81D1-A2FF5154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48571-9D1B-4F73-A90A-78605B52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09E7D-582F-4D51-8B6D-FE23351C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5DB5-7928-4FEF-8990-885AA1E4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6A3FD-3789-4930-923D-3A9EA5BD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16B7B-7839-478F-B6EC-8B142BE4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B061E-1457-4C9D-BC8E-A67B756C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AC9F7-35AF-41F9-B690-9BC7BF0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9B7FE-D326-4ADD-AC49-EB6B722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22333-73A1-4EBE-B68A-BD13F0E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CD27E-DC2B-47B2-B51B-7BCC659F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2FE65-8B2E-4EC9-941A-A4195390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5D80D4-826C-4AA5-94F6-80268930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C2A82-E921-42E6-A72A-2A4B7E0B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C4B1-8C7C-4338-BDCA-C428E8A8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956E2-39D3-4E84-9154-515EC8EC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53620-08F0-4405-A6E1-564EBB4C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7110A5-9E87-4E44-AF17-CAF68D7E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C6771-3D8D-483D-9CE1-2FE80FBE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AE7E2-1D50-4CBB-BF59-BE1B04D7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535C08-C7E1-4A57-9F20-B472D05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64FEA6-D3E6-4629-A0EC-8E4FF342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6DF35-7311-4A43-A88F-ED0C89F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57369-E912-4398-8BB3-FA31BC33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CEDB81-2A9A-4262-AF7C-43AF29E8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F343-D16C-4109-A06D-30525540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E7925-47CF-44CB-866D-C5CCA5F2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B01F95-9645-42E5-829C-560A35E4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F2DC1-A085-4F8F-AAB1-F28A545E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422BA-6A3E-4C2E-9711-378E14E1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7CE65-A2EA-4C0E-AE50-C9A4EF9B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CFB2D3-80F6-49B4-B5A4-322EF94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1074BE-4F27-49CD-B913-07E60226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6E5E2-9A6A-40C9-915C-813F41D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AB7026-B727-492E-A649-D95D7E76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B771D-9092-4E5C-827B-F0B6435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6EA0-1392-406E-A6E6-EED85212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448B6-1DB5-48B7-92D2-929B173F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772ED-E8FA-4FE5-8423-B7A1B1C9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D7934-7F09-4FAA-A882-9DC9AD47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B894-F55E-4FD0-B2D0-2DCFE4B1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E986-AD20-446E-8228-588D5462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E6A8A-AF4F-436A-A325-2D6D1BCE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E98C-F262-4781-B177-B54111B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A21-9B27-460D-A95B-D8884F95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29C4-A5F7-43B1-AF3D-63E79D54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6472-659B-48F6-9117-9F36A21D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4A49-4363-49C2-95ED-C16887A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90F9-9C5B-4DB2-9272-125477D3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3395-9FA4-4AB9-9953-370AC303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A268-92B2-4C56-81E0-BB77D5F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7748-4A13-46CB-98CA-EDE747F2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72A7-3B3A-4953-B498-07AFD884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3958-198F-4759-84FC-D958F850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57E8-61F8-47FD-8AEC-15DC3EC5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A13-D6C3-4CE4-B851-8C10275B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8FDB-5887-4549-BD65-9F8CDCE2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CB1D-2F73-4DD2-96D1-378F2AC9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0C13-58EE-4D9B-B4E8-F63D3E31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881F-C6A9-4265-A74E-309EE67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FC1C-9D42-41F6-9C0B-46E3F1DA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3613-371C-45FA-8264-643B607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DD65-5009-4410-8C9F-2FB24CB1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6E01-0756-43E8-AAFD-F48AFD06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DD58-F0BA-4A2F-B5EB-CC3C386F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FAB8D-9029-44E7-853C-61429014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881-B493-4848-884C-D137EC94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6663E-7DE9-4A91-9804-84162445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0D78C-78C8-4726-9976-C58DDC78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211EA-0340-49CC-B787-1A7DC870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11F6-9A80-4C27-8F0F-BFA4A1DA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586DA-8960-4260-8535-BE8C7D36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A545-B8DC-43BC-B5B8-75F36B01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05669-CA9B-4036-BB94-10A5FA0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6F5D2-0D8E-449D-A872-454B0F0F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C35B0-56C5-4295-998C-71956698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4165-AD5B-47F9-BD91-B5B74B7A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DA3-8C69-47AE-ABBA-4E5B4624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6A840-069D-46EA-BF4A-37FACCD9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A6F3-7908-4320-9367-B716D34D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17EA9-1F55-4078-B0D3-E2083E4F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8F01-BC0A-47A0-82E6-8DEBDE46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DA63-D7EC-48D7-BC79-DB8A5FC2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62127-2569-48E2-854A-DC9C9376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E4CD-CBA4-4E51-8D28-48C4EBD5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50F8-8537-4480-B21C-9D1C91E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A5737-1C76-4141-A7BB-711BFBA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9D80-A987-4602-B0B9-3F514E5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E03-F222-4CCD-BEF4-F787ABE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4B684-5FB4-4DC2-A85E-F7F8EC6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FF59B-E9BD-4D55-8E37-27B78237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D5B1-662E-4576-995C-A6CB67F2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AB3D0-8B03-4261-AD7D-12F43A02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3431B-50D7-4FB5-BCE7-7988974E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AFE76-0171-4C5A-91FC-8506740F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006D8-0C9D-4E68-A681-879AF8B1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ED25B-2D80-49AA-84BB-D6EF9F7A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0E7F2-D0C8-4CD1-9F96-C14B0B73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376BB-5AE5-4CC7-99D1-FA45D27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6E6-FD42-4C6E-A54E-08D6F30F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EC8CB-3557-4C7E-AAF2-32191617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256D-FC52-4FB6-B6FB-73537605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9DC71-2B99-4AE3-B566-9121E4DC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6B13E-8D58-49AB-A6B8-1458B006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A3306-73C8-49F4-9411-57727C39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8D1D8-ECC3-49B0-ABA8-63A9F50B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7352-B76F-4990-8C03-6CA5A1B3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56135-3988-4F3F-AEB1-5B5FA679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8565-0A1A-48C5-B57C-903B991C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75E50-CF0B-4AE6-AE8C-9920CB4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ACC-9B7D-4CDD-871E-9D7F63C3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512E8-6A2E-4DD8-9719-F83D8D75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9AAC8-1EBD-4667-A0E5-E55B124B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B328-CEBE-49B5-8527-768D7544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0FE07-9F06-4CC0-8B8B-B2BC726C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F075A-4E52-4DA9-A7F0-229F4569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DCF26-52D0-4DE8-8E1D-B723F0BE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11EA4-5583-4173-93EA-4DD4CFF8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268A3-4288-4D3A-84B7-079EA244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9CDFC-5BB8-4022-8DF3-EABDEB13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B177C-7C1E-4B3B-9299-CAC3D68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CC13-8A06-47B6-B434-A23135A33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10E7-60F9-441F-82AC-0AED3D5743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4999-50DC-40B4-98A4-CE3A702EB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850F-BB57-474F-9935-2184B8D4D1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0BD8-1420-4337-A2C5-5D48A21524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16FC-5436-4761-8DF5-5567C87112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B4C6-E388-4BA5-8FB1-186B08BEE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D591-2733-464B-AFD6-259FE10876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4F08-8904-4ABE-B589-E5EB179D4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A246-AB93-4DD4-9057-6B5EDDEB2E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24F5-FD88-4135-920A-C41C70B2AE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761A-A1CC-4A4F-97D1-3C6E65B5DF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16C1-7CAE-4591-A8F7-23203EF027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E7A3-8FB2-4139-B5B8-8A2F96BB2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F74E-AAD6-4708-95A9-E24F17F368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0D67-8295-4550-A755-946DAA791C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EBBE-2D49-4D79-803F-1137087D67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76B5-C8EE-4BFF-A324-B2A4F56655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29B4-EF6E-4D81-BB0D-634EB16069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6CF7-06ED-46EA-8679-AEA5752736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600C-628D-4444-8118-82645D004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D4E3-2A08-40ED-BCD8-937346F3E3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0977-C501-4DFE-9D84-B53FE147B8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EB4-6A1A-466C-B5D1-C2BA728C41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E797-3F27-4FF6-97E9-F273606AE2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1FC3-BEC7-4366-9094-EF9FC38CF1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8B7D-1C10-458C-AEBC-39C014089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EA41-F873-4D0C-B5D9-AB1ABCA80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15DC-7D65-4AA0-A4C9-E5C1FE785F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6BD3-5143-4156-A3B9-ACC06671D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5B89-DE04-47B0-B969-D5126A3CCB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3F37-1559-40D1-AD49-56E0ACDD8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FB29-699D-4A64-AB00-FAF404ADB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D352-0F5D-4C7D-B07E-E0D4EAF1E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D57-BB56-493B-A38B-E7A2B8185E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4087-EC14-4AA3-B758-1420E52FE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BCA9-EF6C-4D43-B26D-812B9648EA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B797-3013-4472-8E4A-BF924D260B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4C87-7A46-4BB1-9FAD-C35B54319B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0933-01AF-4234-92A2-CF567275A3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6480" y="2944800"/>
            <a:ext cx="913104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1" name="图片 1" descr=""/>
          <p:cNvPicPr/>
          <p:nvPr/>
        </p:nvPicPr>
        <p:blipFill>
          <a:blip r:embed="rId1"/>
          <a:stretch/>
        </p:blipFill>
        <p:spPr>
          <a:xfrm>
            <a:off x="1019160" y="2390760"/>
            <a:ext cx="7105680" cy="20764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4788000" y="24066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6227640" y="312408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4730760" y="3860640"/>
            <a:ext cx="936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81000" y="152280"/>
            <a:ext cx="8980560" cy="65534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6156360" y="252108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1547640" y="32558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10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5"/>
          <a:stretch/>
        </p:blipFill>
        <p:spPr>
          <a:xfrm>
            <a:off x="1619280" y="5445000"/>
            <a:ext cx="10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6"/>
          <a:stretch/>
        </p:blipFill>
        <p:spPr>
          <a:xfrm>
            <a:off x="1476360" y="6194520"/>
            <a:ext cx="108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46160" y="819000"/>
            <a:ext cx="8851680" cy="58881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16000" y="3630600"/>
            <a:ext cx="2087640" cy="378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708360" y="3645000"/>
            <a:ext cx="2376360" cy="3776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6588000" y="3630600"/>
            <a:ext cx="2087640" cy="3780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258920" y="6222960"/>
            <a:ext cx="2087640" cy="3780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3851280" y="6194520"/>
            <a:ext cx="2087640" cy="3776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6659640" y="6208560"/>
            <a:ext cx="20876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739800" y="896760"/>
            <a:ext cx="7665840" cy="5896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763640" y="191628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763640" y="5373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004760" y="1909800"/>
            <a:ext cx="7134480" cy="3038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403280" y="3573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138320" y="1338120"/>
            <a:ext cx="6867360" cy="4181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201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4932360" y="3270240"/>
            <a:ext cx="201600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6012000" y="4105440"/>
            <a:ext cx="2016000" cy="448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5003640" y="4956120"/>
            <a:ext cx="201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800280" y="1028880"/>
            <a:ext cx="7543800" cy="4800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3708360" y="1023840"/>
            <a:ext cx="194328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4716360" y="1859040"/>
            <a:ext cx="194328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5076720" y="2722680"/>
            <a:ext cx="309564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4859280" y="3573360"/>
            <a:ext cx="309564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3635280" y="4437000"/>
            <a:ext cx="309564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7"/>
          <a:stretch/>
        </p:blipFill>
        <p:spPr>
          <a:xfrm>
            <a:off x="4643280" y="5272200"/>
            <a:ext cx="309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47520" y="944640"/>
            <a:ext cx="9048960" cy="52369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505080" cy="4489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504720" y="257040"/>
            <a:ext cx="8134560" cy="6515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826920" y="2565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826920" y="47386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图片 1" descr=""/>
          <p:cNvPicPr/>
          <p:nvPr/>
        </p:nvPicPr>
        <p:blipFill>
          <a:blip r:embed="rId1"/>
          <a:stretch/>
        </p:blipFill>
        <p:spPr>
          <a:xfrm>
            <a:off x="95400" y="1657440"/>
            <a:ext cx="8953200" cy="3543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5435640" y="25066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3276720" y="32418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5983200" y="4005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9:08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